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993D7D1-61FC-4C5D-A635-DF1A59C1996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92A94A5C-C8C1-4764-89A5-1D13C9168167}"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t">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22200" y="717480"/>
            <a:ext cx="4703760" cy="3527640"/>
          </a:xfrm>
          <a:prstGeom prst="rect">
            <a:avLst/>
          </a:prstGeom>
          <a:ln w="0">
            <a:noFill/>
          </a:ln>
        </p:spPr>
      </p:sp>
      <p:sp>
        <p:nvSpPr>
          <p:cNvPr id="156"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ngs to ad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to bring in the PSP comparison,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ry contrasting the tsp and psp by looking at the process phases. Psp planning compares to tsp launch only it’s for a team, not an individual. Work phases are not so similar but the concepts relate. A tsp plan goes for just a phase, psp encompasses a module. Psp plans are not used to make commitments, tsp launches include management agreement on the plan. Continue with these comparison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h have scripts, forms,standards, measures etc</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 plan and track work including quality.</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nviduals track time on task, defects, size, and schedule statu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ms are similar plan summary – sump, task, schedule,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all, need to bring this into the lecture so it relate to their knowledge of psp.</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more launch coach skills/characteristics.</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22200" y="717480"/>
            <a:ext cx="4703760" cy="3527640"/>
          </a:xfrm>
          <a:prstGeom prst="rect">
            <a:avLst/>
          </a:prstGeom>
          <a:ln w="0">
            <a:noFill/>
          </a:ln>
        </p:spPr>
      </p:sp>
      <p:sp>
        <p:nvSpPr>
          <p:cNvPr id="18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8A7267C-4322-4AE6-9359-C7E090690E0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222200" y="717480"/>
            <a:ext cx="4703760" cy="3527640"/>
          </a:xfrm>
          <a:prstGeom prst="rect">
            <a:avLst/>
          </a:prstGeom>
          <a:ln w="0">
            <a:noFill/>
          </a:ln>
        </p:spPr>
      </p:sp>
      <p:sp>
        <p:nvSpPr>
          <p:cNvPr id="18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0E353AF-34C0-4263-9313-F13E80E156D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222200" y="717480"/>
            <a:ext cx="4703760" cy="3527640"/>
          </a:xfrm>
          <a:prstGeom prst="rect">
            <a:avLst/>
          </a:prstGeom>
          <a:ln w="0">
            <a:noFill/>
          </a:ln>
        </p:spPr>
      </p:sp>
      <p:sp>
        <p:nvSpPr>
          <p:cNvPr id="18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7B14809-0C04-497E-84A1-6DBA45EF1DB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222200" y="717480"/>
            <a:ext cx="4703760" cy="3527640"/>
          </a:xfrm>
          <a:prstGeom prst="rect">
            <a:avLst/>
          </a:prstGeom>
          <a:ln w="0">
            <a:noFill/>
          </a:ln>
        </p:spPr>
      </p:sp>
      <p:sp>
        <p:nvSpPr>
          <p:cNvPr id="19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74B426B-8E1E-4342-A03D-151AB96BC78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22200" y="717480"/>
            <a:ext cx="4703760" cy="3527640"/>
          </a:xfrm>
          <a:prstGeom prst="rect">
            <a:avLst/>
          </a:prstGeom>
          <a:ln w="0">
            <a:noFill/>
          </a:ln>
        </p:spPr>
      </p:sp>
      <p:sp>
        <p:nvSpPr>
          <p:cNvPr id="19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AC8E468-C975-46CD-9CB9-4018A1A4545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22200" y="717480"/>
            <a:ext cx="4703760" cy="3527640"/>
          </a:xfrm>
          <a:prstGeom prst="rect">
            <a:avLst/>
          </a:prstGeom>
          <a:ln w="0">
            <a:noFill/>
          </a:ln>
        </p:spPr>
      </p:sp>
      <p:sp>
        <p:nvSpPr>
          <p:cNvPr id="19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1349786-1A2E-4DC0-AF2F-69047BB9864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222200" y="717480"/>
            <a:ext cx="4703760" cy="3527640"/>
          </a:xfrm>
          <a:prstGeom prst="rect">
            <a:avLst/>
          </a:prstGeom>
          <a:ln w="0">
            <a:noFill/>
          </a:ln>
        </p:spPr>
      </p:sp>
      <p:sp>
        <p:nvSpPr>
          <p:cNvPr id="20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51D87CD-D02B-4393-8545-964C3E9B96C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222200" y="717480"/>
            <a:ext cx="4703760" cy="3527640"/>
          </a:xfrm>
          <a:prstGeom prst="rect">
            <a:avLst/>
          </a:prstGeom>
          <a:ln w="0">
            <a:noFill/>
          </a:ln>
        </p:spPr>
      </p:sp>
      <p:sp>
        <p:nvSpPr>
          <p:cNvPr id="20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54DA73B-34CE-454B-AE71-075EAD71A76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22200" y="717480"/>
            <a:ext cx="4703760" cy="3527640"/>
          </a:xfrm>
          <a:prstGeom prst="rect">
            <a:avLst/>
          </a:prstGeom>
          <a:ln w="0">
            <a:noFill/>
          </a:ln>
        </p:spPr>
      </p:sp>
      <p:sp>
        <p:nvSpPr>
          <p:cNvPr id="20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C174F9E-149A-4080-9EE8-7EB29008E1A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222200" y="717480"/>
            <a:ext cx="4703760" cy="3527640"/>
          </a:xfrm>
          <a:prstGeom prst="rect">
            <a:avLst/>
          </a:prstGeom>
          <a:ln w="0">
            <a:noFill/>
          </a:ln>
        </p:spPr>
      </p:sp>
      <p:sp>
        <p:nvSpPr>
          <p:cNvPr id="20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59C1709-FD79-45DE-8C90-E950C9260E9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22200" y="717480"/>
            <a:ext cx="4703760" cy="3527640"/>
          </a:xfrm>
          <a:prstGeom prst="rect">
            <a:avLst/>
          </a:prstGeom>
          <a:ln w="0">
            <a:noFill/>
          </a:ln>
        </p:spPr>
      </p:sp>
      <p:sp>
        <p:nvSpPr>
          <p:cNvPr id="15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5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DFC69B8-15A9-4622-B630-64182871B3B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222200" y="717480"/>
            <a:ext cx="4703760" cy="3527640"/>
          </a:xfrm>
          <a:prstGeom prst="rect">
            <a:avLst/>
          </a:prstGeom>
          <a:ln w="0">
            <a:noFill/>
          </a:ln>
        </p:spPr>
      </p:sp>
      <p:sp>
        <p:nvSpPr>
          <p:cNvPr id="21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138688B-2DB6-4F25-8A86-B6C5754791A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22200" y="717480"/>
            <a:ext cx="4703760" cy="3527640"/>
          </a:xfrm>
          <a:prstGeom prst="rect">
            <a:avLst/>
          </a:prstGeom>
          <a:ln w="0">
            <a:noFill/>
          </a:ln>
        </p:spPr>
      </p:sp>
      <p:sp>
        <p:nvSpPr>
          <p:cNvPr id="21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F0258C2-9662-4A23-A053-7A4C76A6DF1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17480"/>
            <a:ext cx="4703760" cy="3527640"/>
          </a:xfrm>
          <a:prstGeom prst="rect">
            <a:avLst/>
          </a:prstGeom>
          <a:ln w="0">
            <a:noFill/>
          </a:ln>
        </p:spPr>
      </p:sp>
      <p:sp>
        <p:nvSpPr>
          <p:cNvPr id="21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261E4BE-8D39-424F-851B-1E72265D049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22200" y="717480"/>
            <a:ext cx="4703760" cy="3527640"/>
          </a:xfrm>
          <a:prstGeom prst="rect">
            <a:avLst/>
          </a:prstGeom>
          <a:ln w="0">
            <a:noFill/>
          </a:ln>
        </p:spPr>
      </p:sp>
      <p:sp>
        <p:nvSpPr>
          <p:cNvPr id="22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2179526-A94C-4B62-82A4-94E99E5AB6C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222200" y="717480"/>
            <a:ext cx="4703760" cy="3527640"/>
          </a:xfrm>
          <a:prstGeom prst="rect">
            <a:avLst/>
          </a:prstGeom>
          <a:ln w="0">
            <a:noFill/>
          </a:ln>
        </p:spPr>
      </p:sp>
      <p:sp>
        <p:nvSpPr>
          <p:cNvPr id="22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8326FCE-5FA1-4BE5-BF9F-016AF685BE2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222200" y="717480"/>
            <a:ext cx="4703760" cy="3527640"/>
          </a:xfrm>
          <a:prstGeom prst="rect">
            <a:avLst/>
          </a:prstGeom>
          <a:ln w="0">
            <a:noFill/>
          </a:ln>
        </p:spPr>
      </p:sp>
      <p:sp>
        <p:nvSpPr>
          <p:cNvPr id="22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B0B89AF-6D85-4699-93E9-32A52717605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17480"/>
            <a:ext cx="4703760" cy="3527640"/>
          </a:xfrm>
          <a:prstGeom prst="rect">
            <a:avLst/>
          </a:prstGeom>
          <a:ln w="0">
            <a:noFill/>
          </a:ln>
        </p:spPr>
      </p:sp>
      <p:sp>
        <p:nvSpPr>
          <p:cNvPr id="23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B84B2BA-4BDB-4764-8055-996E2CFE3C2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22200" y="717480"/>
            <a:ext cx="4703760" cy="3527640"/>
          </a:xfrm>
          <a:prstGeom prst="rect">
            <a:avLst/>
          </a:prstGeom>
          <a:ln w="0">
            <a:noFill/>
          </a:ln>
        </p:spPr>
      </p:sp>
      <p:sp>
        <p:nvSpPr>
          <p:cNvPr id="16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6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54C5469-47A1-4628-9827-6F0D3799C2F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22200" y="717480"/>
            <a:ext cx="4703760" cy="3527640"/>
          </a:xfrm>
          <a:prstGeom prst="rect">
            <a:avLst/>
          </a:prstGeom>
          <a:ln w="0">
            <a:noFill/>
          </a:ln>
        </p:spPr>
      </p:sp>
      <p:sp>
        <p:nvSpPr>
          <p:cNvPr id="16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6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CC22CB5-A411-4DCF-81CC-D26708A9174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22200" y="717480"/>
            <a:ext cx="4703760" cy="3527640"/>
          </a:xfrm>
          <a:prstGeom prst="rect">
            <a:avLst/>
          </a:prstGeom>
          <a:ln w="0">
            <a:noFill/>
          </a:ln>
        </p:spPr>
      </p:sp>
      <p:sp>
        <p:nvSpPr>
          <p:cNvPr id="16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6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AF26E16-224D-4640-9B99-67E73C5A8C4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22200" y="717480"/>
            <a:ext cx="4703760" cy="3527640"/>
          </a:xfrm>
          <a:prstGeom prst="rect">
            <a:avLst/>
          </a:prstGeom>
          <a:ln w="0">
            <a:noFill/>
          </a:ln>
        </p:spPr>
      </p:sp>
      <p:sp>
        <p:nvSpPr>
          <p:cNvPr id="17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753D147-9DA1-44F0-B15F-FF23A0AB18D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22200" y="717480"/>
            <a:ext cx="4703760" cy="3527640"/>
          </a:xfrm>
          <a:prstGeom prst="rect">
            <a:avLst/>
          </a:prstGeom>
          <a:ln w="0">
            <a:noFill/>
          </a:ln>
        </p:spPr>
      </p:sp>
      <p:sp>
        <p:nvSpPr>
          <p:cNvPr id="17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6959ACC-9C4C-42AD-BB93-3E869828FD2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22200" y="717480"/>
            <a:ext cx="4703760" cy="3527640"/>
          </a:xfrm>
          <a:prstGeom prst="rect">
            <a:avLst/>
          </a:prstGeom>
          <a:ln w="0">
            <a:noFill/>
          </a:ln>
        </p:spPr>
      </p:sp>
      <p:sp>
        <p:nvSpPr>
          <p:cNvPr id="17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366B4DB-FB4F-4AE4-90FE-71D273248EB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222200" y="717480"/>
            <a:ext cx="4703760" cy="3527640"/>
          </a:xfrm>
          <a:prstGeom prst="rect">
            <a:avLst/>
          </a:prstGeom>
          <a:ln w="0">
            <a:noFill/>
          </a:ln>
        </p:spPr>
      </p:sp>
      <p:sp>
        <p:nvSpPr>
          <p:cNvPr id="17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BDBD02B-86C6-444A-BB0E-F2B8029E564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2E7BA630-5D0D-4184-861B-4FBA83BA58DB}"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997037E7-1377-4328-827C-6E64025A2CCF}"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file:///Role%20TSP%20Coach.doc" TargetMode="External"/><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15937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buClr>
                <a:srgbClr val="9c2108"/>
              </a:buClr>
              <a:buFont typeface="Century Schoolbook"/>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7" name="Rectangle 2"/>
          <p:cNvSpPr/>
          <p:nvPr/>
        </p:nvSpPr>
        <p:spPr>
          <a:xfrm>
            <a:off x="1049400" y="10098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Coaching the Team</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stablishing Process Discipline</a:t>
            </a:r>
            <a:endParaRPr b="1" lang="en-US" sz="3600" spc="-1" strike="noStrike">
              <a:solidFill>
                <a:srgbClr val="9c2108"/>
              </a:solidFill>
              <a:latin typeface="Arial"/>
            </a:endParaRPr>
          </a:p>
        </p:txBody>
      </p:sp>
      <p:sp>
        <p:nvSpPr>
          <p:cNvPr id="11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irst principle of process discipline is to demand disciplin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ually, the first sign of a process discipline problem is poor data gathering, and it shows up at the weekly team mee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 members do not provide their data for the weekly meeting at the appointed time, insist that they stop what they are doing and get the data right then.  If you do this, weekly data gathering should not be a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bjections to Data Gathering -1</a:t>
            </a:r>
            <a:endParaRPr b="1" lang="en-US" sz="3600" spc="-1" strike="noStrike">
              <a:solidFill>
                <a:srgbClr val="9c2108"/>
              </a:solidFill>
              <a:latin typeface="Arial"/>
            </a:endParaRPr>
          </a:p>
        </p:txBody>
      </p:sp>
      <p:sp>
        <p:nvSpPr>
          <p:cNvPr id="118"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bjections usually concern either th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ime needed to gather the data</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erceived use that management will make of the data</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en people actually measure the data-gathering time, it turns out to be almost insignificant.  The key is to do it long enough so that it becomes automatic.</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You can usually overcome individuals’ objections by suggesting that they try gathering their data for a short time and getting back to you if they still have concerns.</a:t>
            </a: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the team member continues to argu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k the individual to measure how long data-gathering take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view the data with the individual.</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bjections to Data Gathering -2</a:t>
            </a:r>
            <a:endParaRPr b="1" lang="en-US" sz="3600" spc="-1" strike="noStrike">
              <a:solidFill>
                <a:srgbClr val="9c2108"/>
              </a:solidFill>
              <a:latin typeface="Arial"/>
            </a:endParaRPr>
          </a:p>
        </p:txBody>
      </p:sp>
      <p:sp>
        <p:nvSpPr>
          <p:cNvPr id="12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ke these points with the team members regarding management’s use of the data.</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nagement is interested in the team’s schedule performance and in the quality of the team’s work.</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nagement needs to know that the team members are properly gathering and using their data.</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 long as management is assured that data are being properly gathered and used, they have no need to look at anyone’s personal data.</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management finds that the data are not being properly gathered and used, they will have to look at individual data to understand the problem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o, if the team members don’t want management looking at their data, all they have to do is properly gather and use the data.</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nitoring Data Quality -1</a:t>
            </a:r>
            <a:endParaRPr b="1" lang="en-US" sz="3600" spc="-1" strike="noStrike">
              <a:solidFill>
                <a:srgbClr val="9c2108"/>
              </a:solidFill>
              <a:latin typeface="Arial"/>
            </a:endParaRPr>
          </a:p>
        </p:txBody>
      </p:sp>
      <p:sp>
        <p:nvSpPr>
          <p:cNvPr id="122" name=""/>
          <p:cNvSpPr txBox="1"/>
          <p:nvPr/>
        </p:nvSpPr>
        <p:spPr>
          <a:xfrm>
            <a:off x="1017360" y="1558440"/>
            <a:ext cx="7413480" cy="4743720"/>
          </a:xfrm>
          <a:prstGeom prst="rect">
            <a:avLst/>
          </a:prstGeom>
          <a:noFill/>
          <a:ln w="0">
            <a:noFill/>
          </a:ln>
        </p:spPr>
        <p:txBody>
          <a:bodyPr lIns="0" rIns="0" tIns="0" bIns="0" anchor="t">
            <a:normAutofit fontScale="94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the team is gathering data, the next step is to ensure that the data are accurate and complete.</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only way to ensure data accuracy is to have someone examine the team members’ data every week.</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out monitoring, most teams don’t consistently gather and use their data.</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blem is not usually due to irresponsible teams.</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stently gathering accurate and complete data requires a level of discipline that is hard to sustain.</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is particularly problematic if nobody examines the data or comments on the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need to work out with the team a way to monitor the quality of the data gathering.</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nitoring Data Quality -2</a:t>
            </a:r>
            <a:endParaRPr b="1" lang="en-US" sz="3600" spc="-1" strike="noStrike">
              <a:solidFill>
                <a:srgbClr val="9c2108"/>
              </a:solidFill>
              <a:latin typeface="Arial"/>
            </a:endParaRPr>
          </a:p>
        </p:txBody>
      </p:sp>
      <p:sp>
        <p:nvSpPr>
          <p:cNvPr id="12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a first-time TSP team, the best approach is for the coach to meet with each team member every week and review the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required data is recor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ata is being recorded as the work is done, not after the fa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data are self-consistent; e.g., defects found in a phase are consistent with the phase tim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the data entries are complete; e.g., phases and assemblies are recorded for every task, time, and defect entr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nitoring Data Quality -3</a:t>
            </a:r>
            <a:endParaRPr b="1" lang="en-US" sz="3600" spc="-1" strike="noStrike">
              <a:solidFill>
                <a:srgbClr val="9c2108"/>
              </a:solidFill>
              <a:latin typeface="Arial"/>
            </a:endParaRPr>
          </a:p>
        </p:txBody>
      </p:sp>
      <p:sp>
        <p:nvSpPr>
          <p:cNvPr id="12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the team has established process discipline, have the quality manager perform the process monitor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 a check to see that the quality manager is doing the job properly, check the quality manager’s data each week.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the quality manager bring his or her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the quality manager to review the checks that he or she makes on the team’s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eck the quality manager’s data the same wa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iscuss the quality of the team’s data and any problems with the team’s data that need the coach’s attent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nitoring Process Quality -1</a:t>
            </a:r>
            <a:endParaRPr b="1" lang="en-US" sz="3600" spc="-1" strike="noStrike">
              <a:solidFill>
                <a:srgbClr val="9c2108"/>
              </a:solidFill>
              <a:latin typeface="Arial"/>
            </a:endParaRPr>
          </a:p>
        </p:txBody>
      </p:sp>
      <p:sp>
        <p:nvSpPr>
          <p:cNvPr id="128" name=""/>
          <p:cNvSpPr txBox="1"/>
          <p:nvPr/>
        </p:nvSpPr>
        <p:spPr>
          <a:xfrm>
            <a:off x="1017720" y="1538280"/>
            <a:ext cx="7689600" cy="4764240"/>
          </a:xfrm>
          <a:prstGeom prst="rect">
            <a:avLst/>
          </a:prstGeom>
          <a:noFill/>
          <a:ln w="0">
            <a:noFill/>
          </a:ln>
        </p:spPr>
        <p:txBody>
          <a:bodyPr lIns="0" rIns="0" tIns="0" bIns="0" anchor="t">
            <a:normAutofit fontScale="97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final process discipline issue concerns the fidelity with which the process is followed.</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first step is to review the key processes with the entire team and make sure that everyone agrees to follow them. These processes are specified by the</a:t>
            </a:r>
            <a:endParaRPr b="0" lang="en-US" sz="19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SP process scripts</a:t>
            </a:r>
            <a:endParaRPr b="0" lang="en-US" sz="19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processes the team defined during the launch</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br>
              <a:rPr sz="1900"/>
            </a:br>
            <a:r>
              <a:rPr b="0" lang="en-US" sz="1900" spc="-1" strike="noStrike">
                <a:solidFill>
                  <a:srgbClr val="39536b"/>
                </a:solidFill>
                <a:latin typeface="Arial"/>
              </a:rPr>
              <a:t>If a team member has a problem with any process, they should submit a PIP to the process manager.</a:t>
            </a:r>
            <a:endParaRPr b="0" lang="en-US" sz="19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proposed change should improve the process.</a:t>
            </a:r>
            <a:endParaRPr b="0" lang="en-US" sz="19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process manager should take the PIP through the team’s change procedure.</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Once the team has agreed on the processes that they are going to use, they need to decide how the process fidelity will be monitored.</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onitoring Process Quality -2</a:t>
            </a:r>
            <a:endParaRPr b="1" lang="en-US" sz="3600" spc="-1" strike="noStrike">
              <a:solidFill>
                <a:srgbClr val="9c2108"/>
              </a:solidFill>
              <a:latin typeface="Arial"/>
            </a:endParaRPr>
          </a:p>
        </p:txBody>
      </p:sp>
      <p:sp>
        <p:nvSpPr>
          <p:cNvPr id="130" name=""/>
          <p:cNvSpPr txBox="1"/>
          <p:nvPr/>
        </p:nvSpPr>
        <p:spPr>
          <a:xfrm>
            <a:off x="1017720" y="1454040"/>
            <a:ext cx="7959600" cy="47959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quality manager should review the process fidelity of the team’s quality processes.  (Details are in the lecture on “Maintaining Quality Focus.”)</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inspections </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reviews</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ests</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For the other processes, the process manager should monitor the team’s process fidelity.</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Some possible issues that may be identified are as follows.</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meeting process is not being followed.</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Design standards were not documented and/or are not being followed.</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Coding standards were not documented and/or are not being followed.</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system test plan was not developed during the requirements phase.</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Exercise</a:t>
            </a:r>
            <a:endParaRPr b="1" lang="en-US" sz="3600" spc="-1" strike="noStrike">
              <a:solidFill>
                <a:srgbClr val="9c2108"/>
              </a:solidFill>
              <a:latin typeface="Arial"/>
            </a:endParaRPr>
          </a:p>
        </p:txBody>
      </p:sp>
      <p:sp>
        <p:nvSpPr>
          <p:cNvPr id="13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You launched a team last week that has four team members and a team leader.  You’re attending the first weekly meeting after a  full week of work.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eter, the planning manager, collected all of his data, but he was unable to roll up the team data because the others didn’t turn in their spreadsheet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om, the senior member on the team, has no data.</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Lisa collected some time data but didn’t collect it for all of her work.</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ue collected her data but didn’t get her data to Peter.</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leader pulls you aside and asks how she should handle the meeting, since most of the team doesn’t have their data. </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at would you advise the team leader to do?</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mproving the Process -1</a:t>
            </a:r>
            <a:endParaRPr b="1" lang="en-US" sz="3600" spc="-1" strike="noStrike">
              <a:solidFill>
                <a:srgbClr val="9c2108"/>
              </a:solidFill>
              <a:latin typeface="Arial"/>
            </a:endParaRPr>
          </a:p>
        </p:txBody>
      </p:sp>
      <p:sp>
        <p:nvSpPr>
          <p:cNvPr id="13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a team has been through at least one TSP launch and has worked together for several months, i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s how to use the PSP and TSP method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data on the tasks that they have do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s the task hours they can expect to achiev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s what they can accomplish in a task hour</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process quality, teams know their strengths, weaknesses, and opportunit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an experienced team, your focus can shift to process improvement and product qualit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 </a:t>
            </a:r>
            <a:r>
              <a:rPr b="1" lang="en-US" sz="3600" spc="-1" strike="noStrike">
                <a:solidFill>
                  <a:srgbClr val="9c2108"/>
                </a:solidFill>
                <a:latin typeface="Arial"/>
              </a:rPr>
              <a:t>Outline: Running the Project</a:t>
            </a:r>
            <a:endParaRPr b="1" lang="en-US" sz="3600" spc="-1" strike="noStrike">
              <a:solidFill>
                <a:srgbClr val="9c2108"/>
              </a:solidFill>
              <a:latin typeface="Arial"/>
            </a:endParaRPr>
          </a:p>
        </p:txBody>
      </p:sp>
      <p:sp>
        <p:nvSpPr>
          <p:cNvPr id="99" name=""/>
          <p:cNvSpPr txBox="1"/>
          <p:nvPr/>
        </p:nvSpPr>
        <p:spPr>
          <a:xfrm>
            <a:off x="1017360" y="1496520"/>
            <a:ext cx="8126280" cy="480564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SP roles:  getting roles to be successful on a team</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racking and reporting:  collecting data, the weekly team meeting, reporting to management</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aintaining the baseline plan:  keeping the team commitment, evaluating status, adjusting plans when necessary</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aintaining a quality focus:  responsibilities for quality, TSP quality methods</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oaching the team:  areas where the coach helps TSP discipline</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oaching the team leader:  handling problems with a TSP team leader</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marL="343080" indent="-343080">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ost-launch Coaching:  post-launch coaching strategy and plan</a:t>
            </a:r>
            <a:endParaRPr b="0" lang="en-US" sz="1800" spc="-1" strike="noStrike">
              <a:solidFill>
                <a:srgbClr val="39536b"/>
              </a:solidFill>
              <a:latin typeface="Arial"/>
            </a:endParaRPr>
          </a:p>
        </p:txBody>
      </p:sp>
      <p:sp>
        <p:nvSpPr>
          <p:cNvPr id="100" name="AutoShape 2052"/>
          <p:cNvSpPr/>
          <p:nvPr/>
        </p:nvSpPr>
        <p:spPr>
          <a:xfrm>
            <a:off x="380880" y="4219560"/>
            <a:ext cx="327240" cy="287280"/>
          </a:xfrm>
          <a:prstGeom prst="rightArrow">
            <a:avLst>
              <a:gd name="adj1" fmla="val 50000"/>
              <a:gd name="adj2" fmla="val 28477"/>
            </a:avLst>
          </a:prstGeom>
          <a:solidFill>
            <a:srgbClr val="39536b"/>
          </a:solidFill>
          <a:ln w="12600">
            <a:solidFill>
              <a:srgbClr val="39536b"/>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mproving the Process -2</a:t>
            </a:r>
            <a:endParaRPr b="1" lang="en-US" sz="3600" spc="-1" strike="noStrike">
              <a:solidFill>
                <a:srgbClr val="9c2108"/>
              </a:solidFill>
              <a:latin typeface="Arial"/>
            </a:endParaRPr>
          </a:p>
        </p:txBody>
      </p:sp>
      <p:sp>
        <p:nvSpPr>
          <p:cNvPr id="13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irst step is to pay more attention to process discipline.  To help the team do this, be more explicit about following the process yourself.</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you are a good process role-model, the team is likely to emulate your performance in their activit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process discipline in place, the team c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ir process data to identify what works and what does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e why these methods succeed or fai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se lessons to improve every team member’s performanc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mproving the Process -3</a:t>
            </a:r>
            <a:endParaRPr b="1" lang="en-US" sz="3600" spc="-1" strike="noStrike">
              <a:solidFill>
                <a:srgbClr val="9c2108"/>
              </a:solidFill>
              <a:latin typeface="Arial"/>
            </a:endParaRPr>
          </a:p>
        </p:txBody>
      </p:sp>
      <p:sp>
        <p:nvSpPr>
          <p:cNvPr id="13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a team has completed one or more projects, have the team use their prior performance as a benchmark for the next launc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prior quality, productivity, and planning performance data to set new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 the process or plan changes needed to reach these goal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Checkpoint Review</a:t>
            </a:r>
            <a:endParaRPr b="1" lang="en-US" sz="3600" spc="-1" strike="noStrike">
              <a:solidFill>
                <a:srgbClr val="9c2108"/>
              </a:solidFill>
              <a:latin typeface="Arial"/>
            </a:endParaRPr>
          </a:p>
        </p:txBody>
      </p:sp>
      <p:sp>
        <p:nvSpPr>
          <p:cNvPr id="14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 checkpoint is a one- or two-day visit by a TSP coach with the team, to review the team’s data and how well the team is following the process in order to identify the issues and problems limiting the team’s performance and recommend actions to address them.</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eams often have problems with the TSP process and support tool basics.</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gathering and managing their data</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consolidating team data</a:t>
            </a:r>
            <a:endParaRPr b="0" lang="en-US" sz="19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generating progress reports</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If not corrected early, these problems can adversely affect a team’s performance.  Checkpoints help TSP teams to deal with these problems in a timely way.</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heckpoint Process -1</a:t>
            </a:r>
            <a:endParaRPr b="1" lang="en-US" sz="3600" spc="-1" strike="noStrike">
              <a:solidFill>
                <a:srgbClr val="9c2108"/>
              </a:solidFill>
              <a:latin typeface="Arial"/>
            </a:endParaRPr>
          </a:p>
        </p:txBody>
      </p:sp>
      <p:sp>
        <p:nvSpPr>
          <p:cNvPr id="142" name=""/>
          <p:cNvSpPr txBox="1"/>
          <p:nvPr/>
        </p:nvSpPr>
        <p:spPr>
          <a:xfrm>
            <a:off x="1017360" y="1538280"/>
            <a:ext cx="7856280" cy="4764240"/>
          </a:xfrm>
          <a:prstGeom prst="rect">
            <a:avLst/>
          </a:prstGeom>
          <a:noFill/>
          <a:ln w="0">
            <a:noFill/>
          </a:ln>
        </p:spPr>
        <p:txBody>
          <a:bodyPr lIns="0" rIns="0" tIns="0" bIns="0" anchor="t">
            <a:normAutofit fontScale="97000"/>
          </a:bodyPr>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Begin by examining individual and team data.</a:t>
            </a:r>
            <a:endParaRPr b="0" lang="en-US" sz="19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See if everyone is gathering and reporting their data.</a:t>
            </a:r>
            <a:endParaRPr b="0" lang="en-US" sz="19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See if the team is following the process.</a:t>
            </a:r>
            <a:endParaRPr b="0" lang="en-US" sz="19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re plans detailed enough?</a:t>
            </a:r>
            <a:endParaRPr b="0" lang="en-US" sz="19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Is the team holding weekly meetings?</a:t>
            </a:r>
            <a:endParaRPr b="0" lang="en-US" sz="19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re the role managers handling their responsibilities?</a:t>
            </a:r>
            <a:endParaRPr b="0" lang="en-US" sz="19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Is the team monitoring quality?</a:t>
            </a:r>
            <a:endParaRPr b="0" lang="en-US" sz="19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Is the team planning to do quality work?</a:t>
            </a:r>
            <a:endParaRPr b="0" lang="en-US" sz="19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at does their quality data look like?</a:t>
            </a:r>
            <a:endParaRPr b="0" lang="en-US" sz="1900" spc="-1" strike="noStrike">
              <a:solidFill>
                <a:srgbClr val="39536b"/>
              </a:solidFill>
              <a:latin typeface="Arial"/>
            </a:endParaRPr>
          </a:p>
          <a:p>
            <a:pPr lvl="2" marL="671400" indent="-2203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re their quality goals being met?</a:t>
            </a:r>
            <a:endParaRPr b="0" lang="en-US" sz="19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Next meet with the team to discuss their issues and concerns</a:t>
            </a:r>
            <a:endParaRPr b="0" lang="en-US" sz="1900" spc="-1" strike="noStrike">
              <a:solidFill>
                <a:srgbClr val="39536b"/>
              </a:solidFill>
              <a:latin typeface="Arial"/>
            </a:endParaRPr>
          </a:p>
          <a:p>
            <a:pPr marL="332640" indent="-332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How they use the process and how it works for them</a:t>
            </a:r>
            <a:endParaRPr b="0" lang="en-US" sz="1900" spc="-1" strike="noStrike">
              <a:solidFill>
                <a:srgbClr val="39536b"/>
              </a:solidFill>
              <a:latin typeface="Arial"/>
            </a:endParaRPr>
          </a:p>
          <a:p>
            <a:pPr marL="332640" indent="-332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ny problems or issues with the process</a:t>
            </a:r>
            <a:endParaRPr b="0" lang="en-US" sz="1900" spc="-1" strike="noStrike">
              <a:solidFill>
                <a:srgbClr val="39536b"/>
              </a:solidFill>
              <a:latin typeface="Arial"/>
            </a:endParaRPr>
          </a:p>
          <a:p>
            <a:pPr marL="332640" indent="-332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at could management do to better support the team</a:t>
            </a:r>
            <a:endParaRPr b="0" lang="en-US" sz="1900" spc="-1" strike="noStrike">
              <a:solidFill>
                <a:srgbClr val="39536b"/>
              </a:solidFill>
              <a:latin typeface="Arial"/>
            </a:endParaRPr>
          </a:p>
          <a:p>
            <a:pPr marL="332640" indent="-332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ccomplishments, progress, things working well</a:t>
            </a:r>
            <a:endParaRPr b="0" lang="en-US" sz="1900" spc="-1" strike="noStrike">
              <a:solidFill>
                <a:srgbClr val="39536b"/>
              </a:solidFill>
              <a:latin typeface="Arial"/>
            </a:endParaRPr>
          </a:p>
          <a:p>
            <a:pPr marL="332640" indent="-332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Suggestions for improvement</a:t>
            </a:r>
            <a:endParaRPr b="0" lang="en-US" sz="19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heckpoint Process -2</a:t>
            </a:r>
            <a:endParaRPr b="1" lang="en-US" sz="3600" spc="-1" strike="noStrike">
              <a:solidFill>
                <a:srgbClr val="9c2108"/>
              </a:solidFill>
              <a:latin typeface="Arial"/>
            </a:endParaRPr>
          </a:p>
        </p:txBody>
      </p:sp>
      <p:sp>
        <p:nvSpPr>
          <p:cNvPr id="144" name=""/>
          <p:cNvSpPr txBox="1"/>
          <p:nvPr/>
        </p:nvSpPr>
        <p:spPr>
          <a:xfrm>
            <a:off x="1017720" y="1526760"/>
            <a:ext cx="7596000" cy="477540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n, meet one-on-one with each team member to discuss</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ny questions about the team member’s data</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ny questions about the team member’s team role</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How to address any problems or concerns the member has raised</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ccomplishments, progress, things working well</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Other problems or suggestions</a:t>
            </a:r>
            <a:endParaRPr b="0" lang="en-US" sz="19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Next, meet with the team to discuss</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preliminary checkpoint findings</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ny team problems or issues concerning management and the team leader</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coach’s recommendations for addressing these problems</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ny problems, issues, or improvement suggestions by the team</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team’s ideas for changes or additions to the checkpoint report</a:t>
            </a:r>
            <a:endParaRPr b="0" lang="en-US" sz="19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heckpoint Process -3</a:t>
            </a:r>
            <a:endParaRPr b="1" lang="en-US" sz="3600" spc="-1" strike="noStrike">
              <a:solidFill>
                <a:srgbClr val="9c2108"/>
              </a:solidFill>
              <a:latin typeface="Arial"/>
            </a:endParaRPr>
          </a:p>
        </p:txBody>
      </p:sp>
      <p:sp>
        <p:nvSpPr>
          <p:cNvPr id="146" name=""/>
          <p:cNvSpPr txBox="1"/>
          <p:nvPr/>
        </p:nvSpPr>
        <p:spPr>
          <a:xfrm>
            <a:off x="1017720" y="1526760"/>
            <a:ext cx="7596000" cy="477540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Finally, the coach and team leader</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Review the final findings and recommendations with the team (team may develop an action plan to address findings prior to management review of checkpoint results)</a:t>
            </a:r>
            <a:endParaRPr b="0" lang="en-US" sz="19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Review findings and recommendations with management.</a:t>
            </a:r>
            <a:endParaRPr b="0" lang="en-US" sz="19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ork with the team to fix the problems.   If that will not be fully successful also, work with management or other parts of the organization.</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Interview”</a:t>
            </a:r>
            <a:endParaRPr b="1" lang="en-US" sz="3600" spc="-1" strike="noStrike">
              <a:solidFill>
                <a:srgbClr val="9c2108"/>
              </a:solidFill>
              <a:latin typeface="Arial"/>
            </a:endParaRPr>
          </a:p>
        </p:txBody>
      </p:sp>
      <p:sp>
        <p:nvSpPr>
          <p:cNvPr id="14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you sit and fire question after question, the team member or leader may feel threatened or drilled.  If, instead, you tell about yourself, or other stories, in relation to the information you know about the person, they will probably respond without being question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Guidelines - 2</a:t>
            </a:r>
            <a:endParaRPr b="1" lang="en-US" sz="3600" spc="-1" strike="noStrike">
              <a:solidFill>
                <a:srgbClr val="9c2108"/>
              </a:solidFill>
              <a:latin typeface="Arial"/>
            </a:endParaRPr>
          </a:p>
        </p:txBody>
      </p:sp>
      <p:graphicFrame>
        <p:nvGraphicFramePr>
          <p:cNvPr id="150" name=""/>
          <p:cNvGraphicFramePr/>
          <p:nvPr/>
        </p:nvGraphicFramePr>
        <p:xfrm>
          <a:off x="752400" y="1504800"/>
          <a:ext cx="8050320" cy="4784760"/>
        </p:xfrm>
        <a:graphic>
          <a:graphicData uri="http://schemas.openxmlformats.org/drawingml/2006/table">
            <a:tbl>
              <a:tblPr/>
              <a:tblGrid>
                <a:gridCol w="1548000"/>
                <a:gridCol w="6502320"/>
              </a:tblGrid>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Make a clear beginning</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State your goals and objectives for the meeting. Be cordial but businesslike.  Establish an air of openness, but also a time frame and the outcome goals.</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Use nonverbal listening skills</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Eye contact, nonverbals, and body position are extremely important in convincing a person that you are not bored by his/her information.</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r>
              <a:tr h="73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Paraphrase</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Putting into your own words what was just said.  This makes sure that you understand what was said and also lets the person know you are truly interested.</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r>
              <a:tr h="73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Restate</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Echoing a piece or all of what was said in the words of the person shows you are listening, helps check accuracy, and gives the person some breathing room.</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r>
              <a:tr h="73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Share yourself</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It is extremely important that you are willing to give out information about yourself. This will build a bond of trust and of openness between you and the client.</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r>
              <a:tr h="7311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Use leads and cues</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From information already received, general leads can be used to spark new areas of conversation. If the person picks up on the lead, follow-up may be used to get more specific information.</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Ask what’s and how’s</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When asking questions, begin with “What” or “How” to get the most useful information</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Summarize</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Restating from time to time what has been said is helpful for both you and the person.</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Discussion Guidelines - 3</a:t>
            </a:r>
            <a:endParaRPr b="1" lang="en-US" sz="3600" spc="-1" strike="noStrike">
              <a:solidFill>
                <a:srgbClr val="9c2108"/>
              </a:solidFill>
              <a:latin typeface="Arial"/>
            </a:endParaRPr>
          </a:p>
        </p:txBody>
      </p:sp>
      <p:graphicFrame>
        <p:nvGraphicFramePr>
          <p:cNvPr id="152" name=""/>
          <p:cNvGraphicFramePr/>
          <p:nvPr/>
        </p:nvGraphicFramePr>
        <p:xfrm>
          <a:off x="658800" y="1504800"/>
          <a:ext cx="8110440" cy="5059440"/>
        </p:xfrm>
        <a:graphic>
          <a:graphicData uri="http://schemas.openxmlformats.org/drawingml/2006/table">
            <a:tbl>
              <a:tblPr/>
              <a:tblGrid>
                <a:gridCol w="1366920"/>
                <a:gridCol w="6743520"/>
              </a:tblGrid>
              <a:tr h="9446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Watch the energy</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Being aware of the feelings attached to various statements can tell you very much.  Pointing out the observed feelings back to the person may reveal more information (“You seem really excited when we discuss…”).  How the data is shared is usually more important than the data itself.</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r>
              <a:tr h="28652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Sequence the depth of questions</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There are two general sequences to remember as you go through the data gathering: </a:t>
                      </a:r>
                      <a:endParaRPr b="0" lang="en-US" sz="14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Organizational layers:</a:t>
                      </a:r>
                      <a:endParaRPr b="0" lang="en-US" sz="1400" spc="-1" strike="noStrike">
                        <a:solidFill>
                          <a:srgbClr val="39536b"/>
                        </a:solidFill>
                        <a:latin typeface="Arial"/>
                      </a:endParaRPr>
                    </a:p>
                    <a:p>
                      <a:pPr lvl="1" marL="573120" indent="-115920">
                        <a:lnSpc>
                          <a:spcPct val="100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Top layer: “What is the problem you are experiencing?”</a:t>
                      </a:r>
                      <a:endParaRPr b="0" lang="en-US" sz="1400" spc="-1" strike="noStrike">
                        <a:solidFill>
                          <a:srgbClr val="39536b"/>
                        </a:solidFill>
                        <a:latin typeface="Arial"/>
                      </a:endParaRPr>
                    </a:p>
                    <a:p>
                      <a:pPr lvl="1" marL="573120" indent="-115920">
                        <a:lnSpc>
                          <a:spcPct val="100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Middle layer: “What are other individuals or groups doing to cause or maintain this problem?”</a:t>
                      </a:r>
                      <a:endParaRPr b="0" lang="en-US" sz="1400" spc="-1" strike="noStrike">
                        <a:solidFill>
                          <a:srgbClr val="39536b"/>
                        </a:solidFill>
                        <a:latin typeface="Arial"/>
                      </a:endParaRPr>
                    </a:p>
                    <a:p>
                      <a:pPr lvl="1" marL="573120" indent="-115920">
                        <a:lnSpc>
                          <a:spcPct val="100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Inside layer: “What is your role in the problem? What are you doing to contribute or delay a solution?”</a:t>
                      </a:r>
                      <a:endParaRPr b="0" lang="en-US" sz="14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Time sequence:</a:t>
                      </a:r>
                      <a:endParaRPr b="0" lang="en-US" sz="1400" spc="-1" strike="noStrike">
                        <a:solidFill>
                          <a:srgbClr val="39536b"/>
                        </a:solidFill>
                        <a:latin typeface="Arial"/>
                      </a:endParaRPr>
                    </a:p>
                    <a:p>
                      <a:pPr lvl="1" marL="573120" indent="-115920">
                        <a:lnSpc>
                          <a:spcPct val="100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First: “What do you do?”</a:t>
                      </a:r>
                      <a:endParaRPr b="0" lang="en-US" sz="1400" spc="-1" strike="noStrike">
                        <a:solidFill>
                          <a:srgbClr val="39536b"/>
                        </a:solidFill>
                        <a:latin typeface="Arial"/>
                      </a:endParaRPr>
                    </a:p>
                    <a:p>
                      <a:pPr lvl="1" marL="573120" indent="-115920">
                        <a:lnSpc>
                          <a:spcPct val="100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Second: “What would you like to be doing?”</a:t>
                      </a:r>
                      <a:endParaRPr b="0" lang="en-US" sz="1400" spc="-1" strike="noStrike">
                        <a:solidFill>
                          <a:srgbClr val="39536b"/>
                        </a:solidFill>
                        <a:latin typeface="Arial"/>
                      </a:endParaRPr>
                    </a:p>
                    <a:p>
                      <a:pPr lvl="1" marL="573120" indent="-115920">
                        <a:lnSpc>
                          <a:spcPct val="100000"/>
                        </a:lnSpc>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Third: “What and who are keeping you from doing what you want to be doing?”</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Be you</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Don’t force any of these guidelines.  Learn from each one-on-one discussion and strive to build your communication skills.</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solidFill>
                      <a:srgbClr val="87abb9">
                        <a:alpha val="20000"/>
                      </a:srgbClr>
                    </a:solidFill>
                  </a:tcPr>
                </a:tc>
              </a:tr>
              <a:tr h="73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536b"/>
                          </a:solidFill>
                          <a:latin typeface="Arial"/>
                        </a:rPr>
                        <a:t>Obtain a committed closing</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536b"/>
                          </a:solidFill>
                          <a:latin typeface="Arial"/>
                        </a:rPr>
                        <a:t>If necessary, get some kind of commitment for further discussions or actions before you leave.  Show appreciation for the time spent with the person.</a:t>
                      </a:r>
                      <a:endParaRPr b="0" lang="en-US" sz="1400" spc="-1" strike="noStrike">
                        <a:solidFill>
                          <a:srgbClr val="39536b"/>
                        </a:solidFill>
                        <a:latin typeface="Arial"/>
                      </a:endParaRPr>
                    </a:p>
                  </a:txBody>
                  <a:tcPr anchor="t" marL="91440" marR="91440">
                    <a:lnL w="5760">
                      <a:solidFill>
                        <a:srgbClr val="87abb9"/>
                      </a:solidFill>
                    </a:lnL>
                    <a:lnR w="5760">
                      <a:solidFill>
                        <a:srgbClr val="87abb9"/>
                      </a:solidFill>
                    </a:lnR>
                    <a:lnT w="5760">
                      <a:solidFill>
                        <a:srgbClr val="87abb9"/>
                      </a:solidFill>
                    </a:lnT>
                    <a:lnB w="5760">
                      <a:solidFill>
                        <a:srgbClr val="87abb9"/>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5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fter the launch, a coach is needed to guide and support the team (</a:t>
            </a:r>
            <a:r>
              <a:rPr b="0" lang="en-US" sz="2000" spc="-1" strike="noStrike" u="sng">
                <a:solidFill>
                  <a:srgbClr val="9c2108"/>
                </a:solidFill>
                <a:uFillTx/>
                <a:latin typeface="Arial"/>
                <a:hlinkClick r:id="rId1"/>
              </a:rPr>
              <a:t>See TSP Coach Role Specification</a:t>
            </a:r>
            <a:r>
              <a:rPr b="0" lang="en-US" sz="2000" spc="-1" strike="noStrike">
                <a:solidFill>
                  <a:srgbClr val="39536b"/>
                </a:solidFill>
                <a:latin typeface="Arial"/>
              </a:rPr>
              <a: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r organizations just starting with TSP, this function is best handled by a TSP coach.</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ventually, the team leader will be able to do most of this functio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rincipal job of the team’s coach is to build talent in the team and support the team in meeting its goal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major role of the team’s coach is to help the team establish and maintain its process discipline by monitoring the team’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ata gathering</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ata quality</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cess fidelity</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102"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responsibilities of the coach during the proj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how to deal with issues related to process discipli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what a TSP checkpoint is and when it is appropriat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4"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responsibilitie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discipli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and wh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ing process discipli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nitoring data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nitoring process qual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mproving the proces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eckpoint proces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Does the Team Need a Coach?</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most likely represents a new way of thinking and behaving for the individual, the team leader, and the organiz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uiding TSP teams requires skill, discipline, insight, and even an outside perspectiv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the Team</a:t>
            </a:r>
            <a:endParaRPr b="1" lang="en-US" sz="3600" spc="-1" strike="noStrike">
              <a:solidFill>
                <a:srgbClr val="9c2108"/>
              </a:solidFill>
              <a:latin typeface="Arial"/>
            </a:endParaRPr>
          </a:p>
        </p:txBody>
      </p:sp>
      <p:sp>
        <p:nvSpPr>
          <p:cNvPr id="10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no standard coaching formula.  Every team and every team member is uniqu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is dynamic, but should be based on a firm set of princip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es must tailor their approaches to the needs of the team and its member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Principles -1</a:t>
            </a:r>
            <a:endParaRPr b="1" lang="en-US" sz="3600" spc="-1" strike="noStrike">
              <a:solidFill>
                <a:srgbClr val="9c2108"/>
              </a:solidFill>
              <a:latin typeface="Arial"/>
            </a:endParaRPr>
          </a:p>
        </p:txBody>
      </p:sp>
      <p:sp>
        <p:nvSpPr>
          <p:cNvPr id="110" name=""/>
          <p:cNvSpPr txBox="1"/>
          <p:nvPr/>
        </p:nvSpPr>
        <p:spPr>
          <a:xfrm>
            <a:off x="1017360" y="1709640"/>
            <a:ext cx="7413480" cy="4592880"/>
          </a:xfrm>
          <a:prstGeom prst="rect">
            <a:avLst/>
          </a:prstGeom>
          <a:noFill/>
          <a:ln w="0">
            <a:noFill/>
          </a:ln>
        </p:spPr>
        <p:txBody>
          <a:bodyPr lIns="0" rIns="0" tIns="0" bIns="0" anchor="t">
            <a:normAutofit fontScale="98000"/>
          </a:bodyPr>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lieve that people want to do the right thing.</a:t>
            </a: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 talent.</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arn team members’ potentialiti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elp team members to improve.</a:t>
            </a: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 high standard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 what superior work looks like.</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the practices and methods that produce superior work.</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cognize when work is below standard and what caused the problem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otivate and guide team members to do better when they fall short.</a:t>
            </a: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Principles -2</a:t>
            </a:r>
            <a:endParaRPr b="1" lang="en-US" sz="3600" spc="-1" strike="noStrike">
              <a:solidFill>
                <a:srgbClr val="9c2108"/>
              </a:solidFill>
              <a:latin typeface="Arial"/>
            </a:endParaRPr>
          </a:p>
        </p:txBody>
      </p:sp>
      <p:sp>
        <p:nvSpPr>
          <p:cNvPr id="112" name=""/>
          <p:cNvSpPr txBox="1"/>
          <p:nvPr/>
        </p:nvSpPr>
        <p:spPr>
          <a:xfrm>
            <a:off x="1017720" y="1444680"/>
            <a:ext cx="7991280" cy="4868640"/>
          </a:xfrm>
          <a:prstGeom prst="rect">
            <a:avLst/>
          </a:prstGeom>
          <a:noFill/>
          <a:ln w="0">
            <a:noFill/>
          </a:ln>
        </p:spPr>
        <p:txBody>
          <a:bodyPr lIns="0" rIns="0" tIns="0" bIns="0" anchor="t">
            <a:normAutofit fontScale="96000"/>
          </a:bodyPr>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Focus on improvement.</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Show team members how much better they could have done if they had followed the process a little better.</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Convince team members to follow the process even better next time.</a:t>
            </a:r>
            <a:endParaRPr b="0" lang="en-US" sz="17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7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Improve in steps.</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Insist on quality work, but consider the members’ capabilities.</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Be pragmatic. Don’t ask for things that the team feels will not contribute to the job.</a:t>
            </a:r>
            <a:endParaRPr b="0" lang="en-US" sz="17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7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Celebrate every step.</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Nobody does everything right the first time.  We all need to take a step at a time.</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Help the team members to make gradual improvements at each step and cheer whenever they do.</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Focus on how far they have come, not on how far they have to go.</a:t>
            </a:r>
            <a:endParaRPr b="0" lang="en-US" sz="17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7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Focus on succeeding with this project.</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If something is done wrong, it can be done over again.</a:t>
            </a:r>
            <a:endParaRPr b="0" lang="en-US" sz="17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700" spc="-1" strike="noStrike">
                <a:solidFill>
                  <a:srgbClr val="39536b"/>
                </a:solidFill>
                <a:latin typeface="Arial"/>
              </a:rPr>
              <a:t>The team may be together only for this project.</a:t>
            </a:r>
            <a:endParaRPr b="0" lang="en-US" sz="17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cess Discipline</a:t>
            </a:r>
            <a:endParaRPr b="1" lang="en-US" sz="3600" spc="-1" strike="noStrike">
              <a:solidFill>
                <a:srgbClr val="9c2108"/>
              </a:solidFill>
              <a:latin typeface="Arial"/>
            </a:endParaRPr>
          </a:p>
        </p:txBody>
      </p:sp>
      <p:sp>
        <p:nvSpPr>
          <p:cNvPr id="114" name=""/>
          <p:cNvSpPr txBox="1"/>
          <p:nvPr/>
        </p:nvSpPr>
        <p:spPr>
          <a:xfrm>
            <a:off x="1017360" y="1568520"/>
            <a:ext cx="7413480" cy="473400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team’s coach is responsible for establishing and maintaining the team’s process discipline.</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One definition of discipline is “a regimen that develops or improves skill.” [Random]</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Process discipline refers to the fidelity with which a defined process is followed.</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For example, a highly-disciplined team follows all of the process steps.</a:t>
            </a:r>
            <a:endParaRPr b="0" lang="en-US" sz="19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oroughly plans their work</a:t>
            </a:r>
            <a:endParaRPr b="0" lang="en-US" sz="19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rigorously follows the process</a:t>
            </a:r>
            <a:endParaRPr b="0" lang="en-US" sz="19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gathers and analyzes their process data</a:t>
            </a: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In short, process discipline for the team deals with a single issue:  doing what the team has decided to do.</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40Z</dcterms:modified>
  <cp:revision>223</cp:revision>
  <dc:subject/>
  <dc:title>No Slide Title</dc:title>
</cp:coreProperties>
</file>